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AB3-BE3F-4B6F-9BA8-1FD27BF4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40D-FF89-4FD2-A9AD-5339D96D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379-D80E-41B3-8C3A-AC719FAB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262-4A44-4087-B5B0-09F25367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C33-B569-4433-98A6-6954ABE9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079-7AC4-455F-A0E0-5265EDF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6345-5946-4942-B27D-E98D036D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78E-B724-413A-AB50-135CD847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395F-AC0A-4F00-9604-EA2F2144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18B-04A2-4CE3-B5CB-4E61836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73EA-A415-42FC-ADCD-320719D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9D2-56F6-4BC0-956E-FAB4427E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A65E-75A0-442F-BE8F-07F9150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8C8A-8630-4ECF-9205-55EA8D1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1F65-9C1D-41A6-92D9-6520D03A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709-EDE8-4A1F-B7EF-B41EF22E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9DE-7FAD-406F-865D-79AE7575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8CB-ABC5-4C4B-8DE4-3BD5BDA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817-9ED9-41F5-A88D-0F09C63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72C-37B3-4A8A-A1C0-CCA4612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DED-1188-4D70-B73F-11CEF2F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D8F-1175-48C0-B595-E1CE29F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291-ABBC-401A-834A-DE92945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38F-6EB8-4287-9CD3-475F60A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6EBC-3DB0-43D4-B75A-32FBC7D128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224C-B9AF-44DD-B7C1-93B55C43C7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3: Chemical Proc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 1: Chemicals in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and the Periodic Ta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eriodic 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structured arrangement of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on the periodic table are grouped into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cal famil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elements in the same vertical column of the periodic table.  They tend to share similar physical and chem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kali metals – group 1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kaline earth metals – group 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le gases – group 18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ogens – group 17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and Atomic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composed of three subatomic particles (protons, neutrons, electr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positively charge particles found in the nucleus of the atom.  Each proton has a mass of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Neutr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neutral particles found in the nucleus of the atom.  Each neutron has a mass of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Electr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negatively charged particles with almost no mass and can be found in orbits surrounding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mber of electrons in an atom is equal to the number of prot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that are in the outer orbit (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valence sh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have greater energy levels and a greater probability of being involved in a chemical reaction.  These electrons are called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valence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– Rutherford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rbit around the nucleus of an atom contain a specific number of electr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2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ctrons fill the orbits in order.  Each orbit must be filled completely before electrons can be placed in a new orb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5029200" y="2514600"/>
            <a:ext cx="3200400" cy="3048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5410080" y="2971800"/>
            <a:ext cx="236232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Bohr – Rutherford Diagr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eate a diagram for Nit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Determine the number of electrons (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Draw the first orbit with the maximum number of electrons allowed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Draw the second orbit with the remaining electrons (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Draw the nucleus with the protons and neutr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248520" y="358128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019920" y="3429000"/>
            <a:ext cx="11430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400800" y="36576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647712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086600" y="251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315200" y="525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54100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5334120" y="4876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8077320" y="4114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6477120" y="4876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Magnes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2"/>
          <p:cNvSpPr/>
          <p:nvPr/>
        </p:nvSpPr>
        <p:spPr>
          <a:xfrm>
            <a:off x="3352680" y="2438280"/>
            <a:ext cx="3429000" cy="3505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3809880" y="2819520"/>
            <a:ext cx="2514600" cy="2743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the number of electrons,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first orbit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second orbit (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third orbit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nucle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protons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4038480" y="3124080"/>
            <a:ext cx="213372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4191120" y="3429000"/>
            <a:ext cx="1752480" cy="16002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24280" y="3886200"/>
            <a:ext cx="838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662940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5562720" y="52578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548640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2670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36576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3733920" y="45720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6172200" y="4419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7"/>
          <p:cNvSpPr/>
          <p:nvPr/>
        </p:nvSpPr>
        <p:spPr>
          <a:xfrm>
            <a:off x="434340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4648320" y="51814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5105520" y="3048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3124080" y="4114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iagram for Sod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the number of electrons (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first orbital (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second orbital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third orbital (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nucleus with the protons and neut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D3%20M11"/>
          <p:cNvPicPr/>
          <p:nvPr/>
        </p:nvPicPr>
        <p:blipFill>
          <a:blip r:embed="rId1"/>
          <a:srcRect l="-4222" t="-18893" r="-5812" b="-781"/>
          <a:stretch/>
        </p:blipFill>
        <p:spPr>
          <a:xfrm>
            <a:off x="4648320" y="1925640"/>
            <a:ext cx="40384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st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study of matter, its properties, and its changes or transfor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er has both physical and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iagram for N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the number of electrons (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first orbit (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second orbit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nucleus with the protons and neut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943600" y="2895480"/>
            <a:ext cx="2590920" cy="259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6324480" y="3276720"/>
            <a:ext cx="19051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6553080" y="3429000"/>
            <a:ext cx="144792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010280" y="38098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815328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943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8381880" y="3733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7924680" y="2971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705720" y="2819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791320" y="43434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723888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6324480" y="5105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7162920" y="3124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7162920" y="49528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ble gases (column 18) are considered to be fairly 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arrangement of the electrons in the noble gases by drawing a Bohr – Rutherford diagram for He, Ne, and Ar.  What do you notice about the arrangement of the electr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me compounds, electrons are transferred from one atom to another to create a stable electron arrangement (like the noble ga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Lithiu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4419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ce that lithium has two electrons in the first orbit and one in its outer orbit (valence shel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lithium loses one electron it will have the same electron arrangement as heliu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 the charge on the atom is no longer neutral.  It has 3 protons (positive charges) and 2 electrons (negative charges) giving an overall charge of 1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724280" y="1981080"/>
            <a:ext cx="2590920" cy="2438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181480" y="2362320"/>
            <a:ext cx="1752840" cy="1676160"/>
          </a:xfrm>
          <a:prstGeom prst="ellipse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5562720" y="2666880"/>
            <a:ext cx="1066680" cy="99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91320" y="28195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791320" y="281952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 =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 =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94360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594360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4648320" y="327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on is a charged atom in which the number of electrons is different from the number of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ionic charge is used to describe the overall charge an ion h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Li which has lost an electron is written as L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calc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electrons would calcium have to lose in order to become stable like a noble g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the ionic charge be on C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ls tend to lose their electrons and nonmetals tend to gain elec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DO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most likely to happen to the electrons in fluorine if it was to become stable like a noble gas?  What would be the ionic charge on fluor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orine would gain one electrons (nonmet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orine would have a net ionic charge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atom would be represented as 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fluoride 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ding “ide” is added to nonmetal 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either classified as a pure substance or as a mix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ure subst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ne in which all the particles that make up the substance are the 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.g. Pure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e substances can be further classified as elements or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DO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most likely to happen to the electrons in sulfur if it was to become stable like a noble gas?  What would be the ionic charge on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lfur would gain two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ulfide 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Create a Bohr – Rutherford diagram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a. Create a Bohr – Rutherford diagram for the stable ion formed by each of the abov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State the ionic charge on each of the ions, and write the name of the atom in ionic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Elements Form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s are made by combining elements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onic Compou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is formed when positive and negative ions join together.  The ions combine in a fashion that generally leaves the ionic compound with a neutra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olecular Compou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re formed when nonmetals combine with other nonmet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emical Formu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hemical formula is a combination of symbols that represent a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magnesium chloride (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scribes a compound with one magnesium ion to two chloride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2 and 3 on page 189.  For part b construct a Bohr – Rutherford Diagram instead of a Bohr dia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ls and nonmetals combine to form compounds by sharing electrons (metals lose electrons to form positive ions and nonmetals gain electrons to form negative 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luminum chloride (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l =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l =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(3+) + 3(1-)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riting Formulas For Ionic Compound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formula for the ionic compound formed by calcium and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symbols, with the metal fir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ionic charge above each symbol to indicate the stable ion that each element 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how many ions of each type you need so that the total ionic charge is ze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will balance the charge of two 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formula using subscripts to indicate the number of ions of each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aluminum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pure substances that cannot be broken down into simpler substances (made of only one type of ato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 oxygen, hydrogen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pure substances that are made of two or more different elements in a fixed propor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 carbon dioxide, sodium chloride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aluminum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nickel and oxyg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of the metal is first followed by the name of the nonmetal.  However, the ending of the name for the nonmetal changes to “id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Calcium and Iodine become Calcium iod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Aluminum and Sulfur become Aluminum sulf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ition Metal Char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or write the chemical formula for the following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Tin (IV)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P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tinum (II) sulf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S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 (II)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(I) nit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 1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, 3 – 9 on page 1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yatom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ormed when metals combine with polyatomic 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olyatomic 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atoms that tend to stay together and carry an overall ionic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Ma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has both physical and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hysical prop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s a characteristic of a substance (color, hardness, odour, solubility, state, melting and boiling point, si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hysical change is a change in the size or form of a substance, which does not change the chemical properties of the sub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riting Formulas for Polyatomic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symbols of the metal and of the polyatomic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ionic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the number of ions to balance the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formula using subscri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mon Polyatomic 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n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mon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carbo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sulf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yan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i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chrom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osulf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drogen phosph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sodium and sulf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lead (IV) and carbon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b(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Polyatom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of a polyatomic compound is simply a combination of the name of the metal and the name of the polyatomic 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Potassium ion and carbonate ion form Potassium carbon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xyaci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compounds formed when hydrogen combines with polyatomic ions that contain oxy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3 on page 198 list some common oxyaci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aming Aci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ten becom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o -ic ac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chlor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o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fluor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sulfur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ually becom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ic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u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o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c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hemical Prop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s a characteristic behaviour that occurs when a substance changes to a new sub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emical change is also called a chemical reaction.  It involves changing one substance into one or more different substances with different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rting materials in a chemical reaction are called the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new materials are called the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rodu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becom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-ous ac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u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3 – 4, 6 – 7 on page 1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lecular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compounds you encounter every day do not contain ions but neutral groups of atoms called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compounds form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ovalent bo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shared pair of electrons between two nonmetal atoms that holds the atoms together in a molec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 gas is a molecule formed when two hydrogen atoms combine and share their elec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a diatomic molecule (refer to table 1 on page 202 for a list of diatomic molecule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riting Formulas for Molecular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bining capacity of a nonmetal is a measure of the number of covalent bonds that it will need to form a stable molec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s for writing molecular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the symbols with the left-hand element first with the combining capa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scross the combining capacities to produce subscrip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the subscripts if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write the formula for a compound formed between carbon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Molecular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s of molecular compounds often contain prefixes that are used to count the number of atoms when the same two elements form different comb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efixes in Molecular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676520"/>
          <a:ext cx="883944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ample (formul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(o)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monoxide (CO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(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fur trioxide (S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tra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tetrafluoride (CF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t(a)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osphorus pentabromide (PB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4 – 6 on page 2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s 205 – 2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a natural product and a synthetic produ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polym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cal te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re distinctive chemical reactions that can be used to identify an unknown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MIS, HHPS, and MS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MIS, HHPS, and MSDS are all symbols that are used to identify hazardous chemicals and the precautions that should be used when working with these chemic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WHMI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orkplace Hazardous Materials Information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HH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Hazardous Household Product Symb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SD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Materials Safety Data 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, 2, 4, and 5 page 1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0:37:44Z</dcterms:created>
  <dc:creator>Administrator</dc:creator>
  <dc:description/>
  <dc:language>en-US</dc:language>
  <cp:lastModifiedBy>amy.cook</cp:lastModifiedBy>
  <dcterms:modified xsi:type="dcterms:W3CDTF">2010-03-08T19:17:32Z</dcterms:modified>
  <cp:revision>108</cp:revision>
  <dc:subject/>
  <dc:title>Unit 3: Chemical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 Default">
    <vt:lpwstr>NODEFAULTDAP</vt:lpwstr>
  </property>
  <property fmtid="{D5CDD505-2E9C-101B-9397-08002B2CF9AE}" pid="3" name="SE Mode">
    <vt:lpwstr>teacher</vt:lpwstr>
  </property>
</Properties>
</file>